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34E-827F-403D-B6E3-4F145CF8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3AA-FAA6-4B73-B03C-3E932A8A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5C3-BAA0-4158-8CAC-64D349CC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967D-DA46-4BDB-9649-847598D3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0CB-EA59-41D4-8F8E-8AB1DB9C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06BD-A7DC-46FF-B0EF-6D26D419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9E5B-C63B-466B-9D34-C2ED5F2B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20C5-503E-4073-A4FF-0F99C1AC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F844-9D46-4D15-A12F-B25F2E6E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200-9FDC-4938-BC33-DEE56D50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106-0DF0-4069-9A27-37E6D462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18D-3B22-4D56-9F4A-BA888CC4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E9549-D6C6-4410-85D4-5238DEAF15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8AB24-FDD6-4210-A235-BA8E632FE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yeacargyle@nationalcapitalregionymca-ywca.ca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yeacmerivale@nationalcapitalregionymca-ywca.ca" TargetMode="External"/><Relationship Id="rId3" Type="http://schemas.openxmlformats.org/officeDocument/2006/relationships/hyperlink" Target="http://www.ymca-ywca.ca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peningSlide_forEEN.jpg"/>
          <p:cNvPicPr/>
          <p:nvPr/>
        </p:nvPicPr>
        <p:blipFill>
          <a:blip r:embed="rId1"/>
          <a:stretch/>
        </p:blipFill>
        <p:spPr>
          <a:xfrm>
            <a:off x="-4680" y="0"/>
            <a:ext cx="9196200" cy="6910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4476600" y="4689360"/>
            <a:ext cx="454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Centre </a:t>
            </a:r>
            <a:r>
              <a:rPr b="1" lang="fr-CA" sz="2200" spc="-1" strike="noStrike">
                <a:solidFill>
                  <a:srgbClr val="ffffff"/>
                </a:solidFill>
                <a:latin typeface="Georgia"/>
              </a:rPr>
              <a:t>d’accès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 en emploi du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123840" y="533520"/>
            <a:ext cx="854064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Services pour des employ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52440" y="1676520"/>
            <a:ext cx="630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Distribution et promotion des offres d’emplois s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fr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Accès aux candidat(e)s présélectionné(e)s pour 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po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Possibilité d’une subvention de salaire durant la période d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Possibilité d’une prime pour embaucher un appr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Participation aux Foires d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Assistance avec rétention des employ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Georgia"/>
              </a:rPr>
              <a:t>Nos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 lieux et </a:t>
            </a:r>
            <a:r>
              <a:rPr b="1" lang="fr-CA" sz="3600" spc="-1" strike="noStrike">
                <a:solidFill>
                  <a:srgbClr val="ffffff"/>
                </a:solidFill>
                <a:latin typeface="Georgia"/>
              </a:rPr>
              <a:t>heures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 d’ouver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52440" y="1814400"/>
            <a:ext cx="6175440" cy="37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180, avenue Argyle, 4ième ét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Tél: 613-788-5001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yeacargyle@nationalcapitalregion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www.ymca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Lundi-Mardi ~ 8h30 - 16:3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Mercredi-Jeudi ~ 8h30 - 19:0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Vendredi ~ 8h30 - 16:00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Nos lieux et heures d’ouver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52440" y="1814400"/>
            <a:ext cx="645804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Centre d’achats Merivale, 2ème ét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Tél: 613-688-21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yeacmerivale@nationalcapitalregion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 u="sng">
                <a:solidFill>
                  <a:srgbClr val="0000ff"/>
                </a:solidFill>
                <a:uFillTx/>
                <a:latin typeface="Georgia"/>
                <a:hlinkClick r:id="rId3"/>
              </a:rPr>
              <a:t>www.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Lundi - Mardi ~ 8h30 – 19h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Mercredi - Jeudi ~ 8h30 – 16h0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Vendredi ~ 8h30 – 4h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ba995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eorgia"/>
              </a:rPr>
              <a:t>Qu’est-ce que le Centre d’a</a:t>
            </a:r>
            <a:r>
              <a:rPr b="1" lang="fr-CA" sz="2800" spc="-1" strike="noStrike">
                <a:solidFill>
                  <a:srgbClr val="ffffff"/>
                </a:solidFill>
                <a:latin typeface="Georgia"/>
              </a:rPr>
              <a:t>ccès</a:t>
            </a:r>
            <a:r>
              <a:rPr b="1" lang="en-US" sz="2700" spc="-1" strike="noStrike">
                <a:solidFill>
                  <a:srgbClr val="ffffff"/>
                </a:solidFill>
                <a:latin typeface="Georgia"/>
              </a:rPr>
              <a:t> en emploi du Y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52440" y="1979640"/>
            <a:ext cx="617544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Le CAE est un programme sans frais, qui aide les individus avec leurs recherche d’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Le CAE est un programme Emploi Ontario et est financé par le gouvernement de l’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Il offre un variété de services pour aider les Ontariens à trouver un emploi 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Il fournit divers services aux employeurs autorises à recruter en 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Services d’empl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52440" y="2108160"/>
            <a:ext cx="6343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Georgia"/>
              </a:rPr>
              <a:t>1) Ressources e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Georgia"/>
              </a:rPr>
              <a:t>2) Consultation en empl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Georgia"/>
              </a:rPr>
              <a:t>3) Jumelage travailleur-emploi et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Georgia"/>
              </a:rPr>
              <a:t>4) Maintien de l’empl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Information &amp; Orientation (I&amp;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52440" y="1676520"/>
            <a:ext cx="630540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Centres de res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Accès aux postes d’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Ordinateurs avec l’accès Internet et un logiciel pour créer un 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Téléphone, imprimeur, télécopieur et photocop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Variété d’ateliers concernant la recherche d’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Information concernant les programmes d’apprenti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Recommandation aux autres programmes communau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Aide avec les CV et lettres de pré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Participation aux foires d’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Distribution des offres d’emploi par courr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*Il n’y a pas de critères d’éligibilité pour ces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Recherche/consultation d’emplo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52440" y="2108160"/>
            <a:ext cx="630540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Critères d’éligibilit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Pas aux études à temps plein (plus de 20 heures par sema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Sans emploi (ou moins de 20 heures par semain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Éligible à travailler au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Résident(e) de l’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Recherche d’empl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52440" y="1676520"/>
            <a:ext cx="63054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Soutien individualis</a:t>
            </a: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é</a:t>
            </a: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 et rencontre avec un(e) consultant(e) en emplo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Assistance et accompagnement dans le développement de CV, recherche d’emploi, stratégies de réseautage, préparation aux entrevues, exploration de carrières, et beaucoup pl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Clarification en matière d’emploi et de 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Aide a établir des objectifs a cour et a long term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Soutien et orientation</a:t>
            </a:r>
            <a:r>
              <a:rPr b="0" lang="fr-CA" sz="1900" spc="-1" strike="noStrike">
                <a:solidFill>
                  <a:srgbClr val="c0504d"/>
                </a:solidFill>
                <a:latin typeface="Georgia"/>
              </a:rPr>
              <a:t> </a:t>
            </a: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aux programmes du Ministère comme Deuxième carriè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Accès aux programmes Clés en mai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*Pour ceux qui sont éligib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Passez au Centre de Ressourc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Appelez-nous ou envoyez un courriel pour fixer un rendez-v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Chaque jour il y’a un(e) Consultant(e) en emploi disponible pour vous rencontrer sans rendez-vous mais sur base de premier arrivé, premier ser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Les Consultant(e) s en emploi vous orienteront vers les services les plus appropri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Comment s’inscr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52440" y="1676520"/>
            <a:ext cx="6305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Jumelage emploi et aide au 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52440" y="1676520"/>
            <a:ext cx="6305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Conseil individuel avec un agent(e) de développement d’emploi en matière de recherche d’emploi, réseautag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Information sur la sante et sécurité au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et les droits des travailleur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Aide a jumeler les chercheurs d’emploi avec les employeurs potenti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Assistance a la recherche d’un apprentissage et possibilité d’une bourse d’apprentissage/stage d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Maintien de l’emploi/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52440" y="2108160"/>
            <a:ext cx="63054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Soutien </a:t>
            </a: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à</a:t>
            </a: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 trouver un emploi durable ou emploi avec possibilit</a:t>
            </a: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é</a:t>
            </a: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 d’avanc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Accès </a:t>
            </a: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à </a:t>
            </a: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des mentors/formate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Assurer le suivi de la relation avec le men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Développer un plan de soutien pour améliorer l'employabilité et le maintien de l'emplo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Faire le suivi des st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50:59Z</dcterms:created>
  <dc:creator>Andrew Jordan</dc:creator>
  <dc:description/>
  <dc:language>en-US</dc:language>
  <cp:lastModifiedBy>aholmes</cp:lastModifiedBy>
  <dcterms:modified xsi:type="dcterms:W3CDTF">2011-07-08T18:26:01Z</dcterms:modified>
  <cp:revision>31</cp:revision>
  <dc:subject/>
  <dc:title>Slide 1</dc:title>
</cp:coreProperties>
</file>